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970-0DF1-4838-A483-CEEEA2EE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C67-6DA1-496A-A702-7016881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40D86-C284-4F94-9C42-4A0D7D0B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2D116-A67B-4051-93CB-2A2E056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CC620-793F-49B1-9CDF-6446D46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E12A2-F63E-470C-B560-3EF7C78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6CB59-F08D-471B-994B-CA20FFD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89E73-1E2B-4F55-A32B-602D917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CE67-3AFE-4B97-B600-F7343C4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688D2-8FFB-4683-9B01-FB8AE895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0402-95D0-4EAF-A1B1-D8C2876E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02C4B-A738-471E-98CF-EA89D449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8FD-4E87-4865-9F4D-BEEED39F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DA552-168E-41D5-9CCC-B81FD0E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1645D-36C1-41A8-A673-C4D25CE6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11167-5D4D-4EA6-80CE-3B8A1AF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F06E3-379E-4EEB-9DC2-BA54942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119D0-BD24-4BAE-8100-F3976F4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E4596-6277-4756-8A7E-CA2F7B22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F533-CB8C-4564-B027-2C9BBDE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3A1BA-6145-4210-8216-E5051F2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78798-18BE-4B69-9FCD-AA0BEF6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9D81-0823-4140-8809-1673F51C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F8E-540D-4D85-97E7-786559B7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AB2B5-E9B4-4B5F-80F9-956221B0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4631F-4553-4065-A52C-DE3B4EBC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DF259-82FB-4181-9095-5815B30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3EDC-D99A-46D5-B6DB-DBAB543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EDC8E-DA44-4EA4-AAB8-4C3A01C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EE9C-8CBE-4452-93BA-2562B43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C2BE-6ABE-4216-9112-EE78EC3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F74D8-14AD-4BB7-BB71-AECD247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FF6E2-594D-41C3-AD81-F50D26A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FB99-0757-4999-B878-EC209F0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45E1-3F50-4477-8AE2-E8CBEC7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11F9-80C7-4432-B98F-EEB45CC7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349E9-4CB8-48CB-A518-0E4FBB16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48FF-924C-4106-AF09-4EF3FF03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8192F-5E21-41D6-9D57-8346C91A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D563D-7ECE-4265-9E46-7B40161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86BC9-C653-482E-B936-CEB3F73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26B18-8F0F-4D0C-86AA-6442C11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DCA75-8793-4949-A4D9-E5DB5FA0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6F09F-7D8D-4FCB-A867-DA4BF65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9BDC4-9C8E-4ABA-97BC-40E4BBA7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0E6-9E78-4FA8-97E5-00C62AC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2F151-7ABF-4B47-9415-70536DB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326C-9DB7-479C-909B-721195E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8CF1E-4EE4-42A0-B9DC-34ADDAEC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3B33F-4995-487A-9DEA-9B658A4E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D5037-88D3-4464-B2FE-F857EFD4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93B30-F540-4153-9058-BB861050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39685-8F87-4AE6-9948-47EA2764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E110D-6D98-46B4-AC16-BC75D0A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D361E-3ADE-4A5F-AD8F-DF610C7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246DA-C2E9-49A8-825F-01FFA8E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CC03-F3F6-4106-888A-163BE9B0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C83E1-9F0B-47F6-99BB-44627B9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8F136-2E50-4CA6-B0A9-A87AE9D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370E3-1D99-4AD8-AC77-B1E7E42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3AB68-A980-4169-9E70-C665A2E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A34DF-20C0-4494-8460-1EBFC4F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2F4FB-E5A1-4B2E-85D6-BFAC706B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CB86E-B5E1-449E-90C1-456309A9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44662-1CE8-458B-80E7-5FE1F0CE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004A9-A5F4-4C02-AF08-5241CE18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75BAD-7F35-4243-94EB-6111B95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E555-E8F6-48E9-B503-D013886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7D031-5EBC-4667-86FA-B56BEBAA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F87D0-6D5C-4C6B-A52E-06EF5C0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B17FB-BD75-436A-AF4D-F15D63FD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0F269-B5AD-469B-968D-442B855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F9AD7-D448-4446-B250-C76B3BC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6CD02-9B6B-4C39-AE24-3E2E6E5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E9125-7E76-4D74-B1E6-462181F3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5AB34-8B7D-4FDA-BA8D-C0807B24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FFFB4-497F-4DAB-9E76-D6727A36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78E54-7E3B-4297-B385-D3A1B439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868-5950-4572-8BD0-E0242AC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1A460-50F1-4BA0-AB8C-4D1EB60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4A29B-7C2D-45A6-BDCC-1C51BDC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05105-0DF1-4D81-9181-78561CB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4304B-C335-47A4-B9D9-B34C207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8869D-76E3-40FE-83C7-89E4A5A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E95D6-2E73-4F11-97DB-50AA1BA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A174C-ECBB-42FF-A122-71357F8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AFF97-D71B-4CAC-9280-B66D732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CA24A-5FA8-4BED-85BE-89307A4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B4611-12ED-49C6-B87D-BC26A358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2F7E-CAB1-4013-BACD-03C4530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46D5F-FC81-4A17-9DBF-DEA2D583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3B15F-F8C4-4F07-9F8B-1FB8CB3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94847-4C78-42F2-8EDC-14BA5EFE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3CD01-C54D-4917-A9F0-D3C0E110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F2B24-6B6D-45F7-B8BA-7D823083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E2525-1983-4751-AF9A-E605F6C7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351E1-A54D-4104-B0C9-E92261AF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9C26A-CB8E-4A66-A7A0-F4D0BE6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4B31D-A5D3-4ADF-8277-2752F8B3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FB597-103B-42FF-8860-F8A4004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375-3BC5-4290-9A0B-8893A63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AA49B-8C00-429F-A65F-0695096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063AA-EFE6-4EFF-A6D9-19011FF6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08AE4-8567-4ABB-93A0-24853D99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53462-AC07-49AA-9C75-F0CB047E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8E887-D4DB-405C-8D91-8C869C7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0B32C-D2A6-46C3-998C-F1D6DE22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35C8B-20B8-494D-8375-94E3B5D9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624B8-E1CC-43D2-A45F-67F2D1A0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033D7-EFB6-45B1-9B70-B6FE341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FE2BC-A84C-4336-8ED4-5306618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9EA-5F19-4229-BA5F-F1FD623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A27B-4086-42F0-8DFF-9E81EA7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988ED-9459-4F3A-81C2-873B686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59DDC-947E-4ED1-8EB4-405BBD9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E338C-AD80-47B4-B88C-A245951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06885-6E72-4594-9419-F4EA31D3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151C2-6173-4F88-BF5D-231301E8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8399D-43B4-4C2F-9614-A8A6204E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91FE7-ECD2-4906-B36A-386164D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1B36C-7C9C-41DB-91AC-EF3D9A8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AB040-F59B-4FCE-B6A1-A4E4DB5C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A3611-1046-44EF-B543-D1615B8A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5EE-F747-4893-8F02-711A6D9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68D3F-E2E8-490A-846C-A8B3F99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80040-7466-4744-94EC-249E48F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2F5B5-2FA5-4B2F-A0E6-B16D1A9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33382-FDE6-4510-BF08-89B54F6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627D3-AD99-43B5-A47D-7B917F0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CAC54-CA18-47FF-BC77-70EA6379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EADF7-8B07-4658-9DE5-CF463CC2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F124D-A0B0-47FD-B09E-5630AA65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AE304-79A0-489B-9262-0A6C39C4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7C724-63A8-4B27-9591-8827D43B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436B-C2B2-466A-8913-5DBDB53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41F95-216A-46DC-A7C3-7DE1F04F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BF5D3-C0F3-4796-AD27-25EC9B5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19E46-4BA1-4214-A8B6-F388262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59863-2B90-419E-8F66-5AC2527F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312EF-6FE6-468C-A39B-0138E55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86C13-0596-46BA-806F-ECDC9F4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3334D-04C3-4C2A-BB96-723696E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5F0BC-B757-4951-8649-3FD34C8E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B0E6D-0BF5-4F8B-8F42-7DA3A2D9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4EF18-B68E-4301-AA9A-D70C9E25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3F6-6469-4453-80D3-83001E0E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5B557-FE6B-4114-9B79-91049DC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BC662-852F-4CDF-8E8B-8E44904C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24D03-9AC8-4470-8420-E0ACADF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0B021-9737-4746-B1CE-85F282F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59676-7362-4548-AA60-79C07B5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F076D-F8F0-4EC2-955E-5AC3DF5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75524-5C0C-4984-A12E-F6CB0BA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1C9FE-52DE-4F33-89AA-A18B78E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B8A7F-A778-494D-A3AA-75D24CA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74D83-73BE-42C2-862E-8222102E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473-64D8-4A07-AF3D-DBBE4421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02FB0-8DB6-4280-BAF0-44F7D0F5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7FCB0E-064F-409F-A503-91C83878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C16F0-32D4-4E8E-BB20-5B7A499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B35DA-9ED9-461F-AF93-9588556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FFBFD-763F-4C9F-925A-9B4F6C2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6252DB-B4E8-4A45-B2D6-AC042C2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28442-6402-4AE4-84AE-8847E74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15316-B725-43A8-BAC6-C718E0A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744A4-15E4-4328-BE1A-9BA0FDC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9CD68-3BAA-4ED0-9F82-9B00B7C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1B7F-BFDA-4950-814E-AA132D20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83F55-9BFC-4EF1-ACF0-2255FC4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C6D677-DB8B-48DB-BF7B-33C4484C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262AC-6F48-425C-B3E5-773C5E4D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91D68-0866-4FB0-9B1C-5B6403CB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5A368-808B-44EC-B278-A0772BFD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5E98D-4368-418E-AC6A-755D4A3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4D8FB-7C1D-4272-AA98-0A1ECB3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9B4A8-C900-4CA2-8C5D-2DE246F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D860F-0E9D-4B1F-A0EC-568B8A3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3B10C-FDE9-4886-966B-9F54DA3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497C-E7AC-48A3-BCF4-83C5D7D9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001A3-6B3F-4C8E-8883-C806D6A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FA47CE-5F02-4928-97A6-5FE87DB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53A422-E210-4E1C-9654-EC0495A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70177-3AA6-48C8-8793-F0182C7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35430-D725-4989-B3D5-CE67D961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4D961-9A5A-4114-90A6-8BCE245C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A2CE9-050D-4077-88D9-777CAA94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6F4C6-D278-4347-AF4D-4908F79C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8AA87-9207-4BAD-B8BE-9963695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FB3D71-8BB3-497F-904A-3D3CDE1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5854-0643-4D03-8CB6-CB97729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D756DB-5EC2-40F0-8715-1496D0A2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49C03E-F898-4DDB-99C9-CA81A49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769FA4-0C8D-4DDD-9E89-2E1CA9E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19B58-D889-44A4-BD98-B45A901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2DD30-CECC-4AC7-A56A-835B74EF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E52B6-5105-4BCE-90A6-C939D28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E755E4-5040-456C-B9CA-3F2697B0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69206-1354-4A34-86FE-B0C34B9A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4986DC-C3E2-4A80-87F5-24E54D4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610BA3-BDD4-43A2-B80B-8090486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76F8-87AE-4EDE-A35F-BE80439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35E81-66D9-45AB-930A-2CE2D08D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DAEF82-1376-4D0E-B3ED-9E9A43C1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56E9C7-119F-48A1-97CF-6440480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714F6A-32F5-479D-B7C6-7C43107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CF980-60FE-43D2-81E2-24CDCE55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D5AE94-B257-47C7-84F3-D09D8D3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7A8F82-71AD-4F16-8A88-EC5CB352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DA0331-069E-474B-BC28-329F9E14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DE356D-C946-4B5D-8A31-49270A5D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3DB784-2DA0-4DDE-B37A-06FB873B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E996-9ECB-4B10-BE25-E6ED5D4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97007B-CB2F-456B-9E8B-865AE50C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15F067-A7D6-4156-B177-BEB86CE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62AF81-1484-479E-B700-62D651C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C92042-8355-4A26-8AD1-BB72F2A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561A51-966D-4EA2-A14F-AC883FDB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ABCE6E-BF46-4378-B3F5-541C71D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57A024-CC7B-4553-A637-E0C3447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3766B5-0458-4528-A614-3A799A2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65FB4-E903-4F7E-977C-2E1F9C9D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1F5A5-8211-4A54-A1C0-29CC5060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3C9-4E7B-487B-A89F-8180A858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32C6-9403-4F5F-86E0-A4CA6BA5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C79113-978F-4842-9EC7-28DE767A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FC9CD3-492C-4BC3-AE21-58822CD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18EE0F-CD52-4053-B1FE-E0DB568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871FE7-6595-41D6-8A73-1B37FD0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04829-C821-458D-AC98-4A05004B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518AC5-9237-462D-A0E6-6454397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3DFAA-C8BC-40F9-9799-F0C0EC9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E6FFF4-1943-458B-80C1-CE30C50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48972-EA07-4F36-92E0-FC126AE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AFC54-4E1A-4194-B4D2-7FBD142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B953-13F4-4A45-89D2-7002EF8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EA2EF6-FBDE-4C33-ACB6-F28C4D4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C654EB-3D39-47C6-9095-7ADC603E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8A2E87-0204-44F9-9045-1816E6D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EFD038-857F-4977-A18D-46EB8C6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301FE3-1890-4C83-8BA1-6D979491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521A89-3C03-4E4B-85B8-34D97D8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9AEAE-7771-465B-81B1-8A8AF389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0247FC-36DA-46CF-B62D-37C2962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BFABDB-A6C2-4361-B4FF-5537D645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133E2B-F79D-4EBC-8A5E-96CA867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9FFD-E9F4-4648-956A-12B4AF8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CB6451-0CA6-4B2A-94A1-5CE1B09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4DF328-DFBE-4203-A6C8-C365A497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A9B29-1673-46DD-BBAE-C323888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1BF24A-9F9E-4A4C-97C8-DC594BB2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C7FBE-A147-4C9E-8103-487BEA0C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0AC7F2-98BD-4792-8771-86BAF1B6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6FE255-E52A-41DD-92B6-6D500D4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BCBC99-F3BD-4808-8CA6-CE4EFE51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A72318-063A-4020-9EB3-65F02CD0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5C767A-9933-4E63-A4B9-66113AA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5226-B01B-438A-894B-15B74CC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3CC257-7BA4-473B-9029-27FFCB4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53BD96-2A33-4427-A3A1-171A207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5E8D9E-1ED1-4D3E-A584-E547ABD9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6822A-E7D5-4323-8C0D-E7BD829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446924-2C2D-4308-A233-203BC60F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D98DCA-E757-4A2F-A47F-A3EC5287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9FB30-722F-4877-853C-3B5FF58B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AC3301-4FAD-4670-AB38-DE1ED6A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C3E6DE-31A4-4A21-A1E5-44E49FE0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6DD0D8-F469-426F-957F-BD0D6B8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12F1-E749-47FC-AE30-B60F73E4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2F12C0-A9E6-481C-828C-7E435F61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D9033B-13AD-4D54-8CF7-ABEB5FC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163CE7-794B-4F0C-BD0C-B6179AF1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88877A-C679-45D0-85FE-35FAA44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4C2A0C-B7CA-4FA2-BAF9-13BB59E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8CED65-1523-4D51-AE41-D3CE837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EF5D94-B036-469F-B39B-8AFA5AF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CA256D-24E2-44F6-BB97-3FBED7F7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DA8696-62B2-4742-A965-A39B8F19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F89892-5351-45B7-9A4C-B264190C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055C-7E29-43B9-9643-2E1D2A58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20E8A6-E1B1-4950-9F43-C1E24F8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C1150A-DBC1-441E-88DA-2E1C250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0555A0-C03D-403D-A018-EBF7EE2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F9F439-9FBD-44F4-B44D-DDF442CA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957D31-D046-4828-A894-E5F90024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4E71F8-CA4A-4C3B-BFD7-888E7E5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B3F47-8BEF-4395-BAD6-D9FEF94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5747D-84D7-4864-820E-E6EA6D3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958D02-3C0F-48E7-B991-B5F8699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DCFED0-CBA2-45C8-BE65-4615FE2D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B8F0-E632-498F-8773-2A1DBAEE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AA6096-2783-431E-98DE-A4865AC1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69B272-B8C7-4753-94A3-5C73F98F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6C147-0448-4DA5-ACCB-1BEB149A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E6DA25-0688-4A24-8684-A4E5F6FF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A446A3-8B01-4FB7-AE72-A038BE6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5F58E8-00DC-451C-A590-F0E4CE2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EF8623-936F-4770-B4FD-FA88C0E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CEAEF7-A70D-4090-B68B-D00986F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4BEEE3-E076-44AE-82DE-1936FBBB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5DCC05-DBA3-42BD-A96B-9CE09BF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FF6B-BD53-42F8-8FB2-1B68CC03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33DDE6-6944-47BF-A9C3-DDCF9EAE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2B40F4-BDB3-401C-984C-77FC62CD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C4769F-F2BD-4F7A-BD51-8037FC02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1DBB-30A2-4877-B4F1-3417F47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F4C1-1683-429D-9B40-ADF5D6B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F50-7E42-47ED-855A-ACD5790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B96E-A9C0-4652-A178-EB98965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6980-B847-492A-8300-1240C2FE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A4F6-9457-4558-9F1F-3A578D19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6169-B111-488C-A067-346FAE3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35F4-9A5B-47CD-B987-E59D021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D955-493A-4BD1-9EEA-6F9CC5F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5EED-4F04-4EC7-974E-05C5725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179C-DA71-472A-9209-62615FD8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CB6C-15EA-4B0A-BA41-75CEDA00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6324-2E64-4DFA-A355-2B01C8F0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0A0-8C8F-44DE-A6E8-9376CD2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E4F6-CD63-4894-9652-14A7062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CE9E-D3C9-4B1A-A930-D563B4D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6661-A9E4-4487-9C81-EE61CCF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4D76-6681-4565-9900-B241779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91DA-0739-40A7-B058-0119945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7D6E9-518D-4A3B-929F-C1ED5F2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EF8F-A1D3-48C8-B853-8E57CBEC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64A5-F2CA-490F-993D-B693E04A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C4DC-23D1-4BCF-9ADE-DD68253A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45A6-B4D1-4F07-AC40-2609E935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578-1363-42B0-AADE-2400ADD5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48D2-821D-4006-9570-8B8209CE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941D2-B39E-4C14-B314-A93AD241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8437-7CA5-4267-9E8D-8CB8295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320F-C78A-4EA5-8019-0ED14E1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0661-6864-4D52-8ABA-E0E5E36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7256-F07F-42A7-B43C-7265627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D62C-57BA-44AF-8561-EE414F2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C598-9B32-4D59-B6DC-C1F9FBE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23CB-AB41-4C6A-A1B9-02CBFE0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576D5-328E-47F8-9169-8E790CE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F57-921E-4835-B1F3-C5E7756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6835-D5BE-47CD-AF5D-0F3BE525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9D86-F29C-487D-B7AE-8F5A04B1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B4EB-797E-43D9-B31F-E7912E8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E454-F426-4FBA-A400-0DFC9C14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E009-3640-448F-B2AD-A32AD79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B771-23BE-4086-922C-81F58334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DDCB-0857-465D-A873-15B9A3E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43B4-2608-4D93-AF8A-E797849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AE6D-9F6D-4123-83AD-EBE336DE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105A-344D-40D2-AF34-8440E5AC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D81-8110-434C-A0C3-7EC240F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E871-F98B-4D85-BAAB-BB22088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9866-5B01-4B19-81DF-AD5C167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5445-DF7A-499C-A13D-8B04AAE4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33B4-F98A-4164-A76C-4E478B05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C879-4A63-47AA-8078-0A22F2FC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A3C37-B2B8-4C50-8874-A40A5D14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4C4C-45DE-4E34-B739-BBB1BC97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6155-A764-4C91-AC20-AFE8F717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76EC-E314-4152-AEFB-616F050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3A39-2D2B-40B8-A054-3A9290D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527-FDD3-4F28-B72F-12A9DF1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AD7A-0ED1-4398-B39A-FB7BA21A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F1A2-115F-4D13-AFFB-115320C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A44A-9E96-4DEF-A0F8-694E5CA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9BF6-C4FF-4465-8786-657CF1C8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FF96-848A-49B6-8EF4-8DBE1C5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5668-1D07-492C-AE3A-D623CF3E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73834-3653-40F1-B8E5-E63D834F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35540-9766-4B60-9E0F-72413E70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3A58C-F927-4A9C-ADAA-F52DC7BF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467F-444F-4E70-A197-7510EE7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7A9-0A59-4F38-863D-F12073FB70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806C-D121-4A06-A813-BF77D16E5C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3A69-2037-428D-86DD-24FFAB1438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6A72-6993-4F33-B389-C88744CD7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4AF-88CC-4CCE-9DCB-E65819DCFC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FB2-CEAF-4AC6-B82F-D1CEA5EC5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4F1-897C-40C5-AA4A-791C8EB20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2ED6-3171-41DB-916F-C5E981FAA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FEE-1630-41ED-A7C1-C1CCFFADA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DFA6-99F7-47FF-9B2A-DBC24AB3C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4E1-E407-457E-B0DE-515FFAC28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40E2-339D-4EA1-B4E9-F00784791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F23-92BD-449F-9096-DE0E3BC8B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9F6-CC80-470F-880C-2E7C370C0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685-78BF-42C5-8255-DDC4AB43B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F34C-D584-4FDB-8F32-207350582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B7F-F5B7-4B28-8DD4-D0C8012C4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0C6-CD10-464B-A2B5-9CBE172E9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6C1-27E8-4E96-A136-866DC5183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393-F9F6-44AA-A382-61DDE4784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80E-007A-4C2B-82F1-C5012E1CF8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118-B565-474F-8313-18CFD6551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672-69EB-4D91-BBF1-556DBA8740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EA8A-A9D1-4CBB-AC13-B70A1F54E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4BF-A4FE-4787-A3C7-F02D70DE5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BD1-03C6-4715-9FCA-0524C4CD1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A03D-032F-4DF9-8235-8307B1B1E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798-5C5C-4D34-99BB-EC199D6C5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854-BCFC-429D-9F34-520D2A3595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2DD-D6E2-4756-A82B-63E09E2A4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ABA7-37A6-4979-9CBA-A31BADCCB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4BCC-68F8-4BF4-A766-0FC9E06BA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8C3-87F8-47FE-9AE6-E7BF6B458D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05E-6C50-478C-9DDF-4D4E3ADD8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D67-E5BB-48B4-9B9B-59ED29030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251-55B2-42D1-8EC6-55D83D8DD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1D70-A2A3-472C-B6DC-5D76F89C0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FB1-106B-41BF-B4BA-BDBFA1464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1FC0-FE03-4651-BD1A-D02359C37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36DE-3F43-46B4-B04A-24CCC5673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9E1-8D79-4932-9DE5-196F7B35D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54D-FF67-4524-B880-6DB5A7CC1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593-1F21-4388-9068-65535D74E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1BD-7213-415D-BD73-40FB65F24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E6DB-B55D-4F64-B0EF-6780069ED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324-7A5D-475D-8F3E-8A89266503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6DE8-88CF-4AA2-84E2-DF30AC460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D57-2479-478E-91F9-70D9792B2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8C98-E313-43E2-891C-FC2CFA2DA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81C-C906-40DD-A604-F9EB9537F4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486320" cy="7239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990880" y="3057480"/>
            <a:ext cx="3162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6737" descr=""/>
          <p:cNvPicPr/>
          <p:nvPr/>
        </p:nvPicPr>
        <p:blipFill>
          <a:blip r:embed="rId1"/>
          <a:stretch/>
        </p:blipFill>
        <p:spPr>
          <a:xfrm>
            <a:off x="814320" y="1347840"/>
            <a:ext cx="7515360" cy="41623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6738"/>
          <p:cNvSpPr/>
          <p:nvPr/>
        </p:nvSpPr>
        <p:spPr>
          <a:xfrm>
            <a:off x="3670200" y="3035160"/>
            <a:ext cx="8305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39"/>
          <p:cNvSpPr/>
          <p:nvPr/>
        </p:nvSpPr>
        <p:spPr>
          <a:xfrm>
            <a:off x="3720960" y="3949560"/>
            <a:ext cx="8305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6740"/>
          <p:cNvSpPr/>
          <p:nvPr/>
        </p:nvSpPr>
        <p:spPr>
          <a:xfrm>
            <a:off x="3403440" y="4838760"/>
            <a:ext cx="8305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5713" descr=""/>
          <p:cNvPicPr/>
          <p:nvPr/>
        </p:nvPicPr>
        <p:blipFill>
          <a:blip r:embed="rId1"/>
          <a:stretch/>
        </p:blipFill>
        <p:spPr>
          <a:xfrm>
            <a:off x="800280" y="2100240"/>
            <a:ext cx="7543800" cy="26575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5714"/>
          <p:cNvSpPr/>
          <p:nvPr/>
        </p:nvSpPr>
        <p:spPr>
          <a:xfrm>
            <a:off x="4051440" y="2616120"/>
            <a:ext cx="14572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5715"/>
          <p:cNvSpPr/>
          <p:nvPr/>
        </p:nvSpPr>
        <p:spPr>
          <a:xfrm>
            <a:off x="3162240" y="3022560"/>
            <a:ext cx="76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5716"/>
          <p:cNvSpPr/>
          <p:nvPr/>
        </p:nvSpPr>
        <p:spPr>
          <a:xfrm>
            <a:off x="4343400" y="4216320"/>
            <a:ext cx="76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5717"/>
          <p:cNvSpPr/>
          <p:nvPr/>
        </p:nvSpPr>
        <p:spPr>
          <a:xfrm>
            <a:off x="5727600" y="4216320"/>
            <a:ext cx="1005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468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63000" cy="3848400"/>
          </a:xfrm>
          <a:prstGeom prst="rect">
            <a:avLst/>
          </a:prstGeom>
          <a:ln w="0">
            <a:noFill/>
          </a:ln>
        </p:spPr>
      </p:pic>
      <p:pic>
        <p:nvPicPr>
          <p:cNvPr id="1484" name="图片 114690" descr=""/>
          <p:cNvPicPr/>
          <p:nvPr/>
        </p:nvPicPr>
        <p:blipFill>
          <a:blip r:embed="rId2"/>
          <a:stretch/>
        </p:blipFill>
        <p:spPr>
          <a:xfrm>
            <a:off x="852480" y="4822920"/>
            <a:ext cx="6657840" cy="121896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4691"/>
          <p:cNvSpPr/>
          <p:nvPr/>
        </p:nvSpPr>
        <p:spPr>
          <a:xfrm>
            <a:off x="7734240" y="257796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3665" descr=""/>
          <p:cNvPicPr/>
          <p:nvPr/>
        </p:nvPicPr>
        <p:blipFill>
          <a:blip r:embed="rId1"/>
          <a:stretch/>
        </p:blipFill>
        <p:spPr>
          <a:xfrm>
            <a:off x="461880" y="1052640"/>
            <a:ext cx="8220240" cy="47527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13666"/>
          <p:cNvSpPr/>
          <p:nvPr/>
        </p:nvSpPr>
        <p:spPr>
          <a:xfrm>
            <a:off x="7823160" y="156204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264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48680" cy="527688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2642"/>
          <p:cNvSpPr/>
          <p:nvPr/>
        </p:nvSpPr>
        <p:spPr>
          <a:xfrm>
            <a:off x="5194440" y="3962520"/>
            <a:ext cx="568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2643"/>
          <p:cNvSpPr/>
          <p:nvPr/>
        </p:nvSpPr>
        <p:spPr>
          <a:xfrm>
            <a:off x="5651640" y="4508640"/>
            <a:ext cx="568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2644"/>
          <p:cNvSpPr/>
          <p:nvPr/>
        </p:nvSpPr>
        <p:spPr>
          <a:xfrm>
            <a:off x="4813200" y="504180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2645"/>
          <p:cNvSpPr/>
          <p:nvPr/>
        </p:nvSpPr>
        <p:spPr>
          <a:xfrm>
            <a:off x="3390840" y="5587920"/>
            <a:ext cx="9651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2646"/>
          <p:cNvSpPr/>
          <p:nvPr/>
        </p:nvSpPr>
        <p:spPr>
          <a:xfrm>
            <a:off x="5448240" y="612144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11617" descr=""/>
          <p:cNvPicPr/>
          <p:nvPr/>
        </p:nvPicPr>
        <p:blipFill>
          <a:blip r:embed="rId1"/>
          <a:stretch/>
        </p:blipFill>
        <p:spPr>
          <a:xfrm>
            <a:off x="433440" y="1795320"/>
            <a:ext cx="8277120" cy="326736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11618"/>
          <p:cNvSpPr/>
          <p:nvPr/>
        </p:nvSpPr>
        <p:spPr>
          <a:xfrm>
            <a:off x="7785000" y="3543480"/>
            <a:ext cx="5684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1059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67760" cy="38102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0594"/>
          <p:cNvSpPr/>
          <p:nvPr/>
        </p:nvSpPr>
        <p:spPr>
          <a:xfrm>
            <a:off x="4292640" y="2679840"/>
            <a:ext cx="5684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09569" descr=""/>
          <p:cNvPicPr/>
          <p:nvPr/>
        </p:nvPicPr>
        <p:blipFill>
          <a:blip r:embed="rId1"/>
          <a:stretch/>
        </p:blipFill>
        <p:spPr>
          <a:xfrm>
            <a:off x="461880" y="1171440"/>
            <a:ext cx="8220240" cy="451512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09570"/>
          <p:cNvSpPr/>
          <p:nvPr/>
        </p:nvSpPr>
        <p:spPr>
          <a:xfrm>
            <a:off x="7797960" y="1739880"/>
            <a:ext cx="568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854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58040" cy="97164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08546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267760" cy="448632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08547"/>
          <p:cNvSpPr/>
          <p:nvPr/>
        </p:nvSpPr>
        <p:spPr>
          <a:xfrm>
            <a:off x="7835760" y="166356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7521" descr=""/>
          <p:cNvPicPr/>
          <p:nvPr/>
        </p:nvPicPr>
        <p:blipFill>
          <a:blip r:embed="rId1"/>
          <a:stretch/>
        </p:blipFill>
        <p:spPr>
          <a:xfrm>
            <a:off x="442800" y="1362240"/>
            <a:ext cx="8258400" cy="413352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7522"/>
          <p:cNvSpPr/>
          <p:nvPr/>
        </p:nvSpPr>
        <p:spPr>
          <a:xfrm>
            <a:off x="6400800" y="2374920"/>
            <a:ext cx="9079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3"/>
          <p:cNvSpPr/>
          <p:nvPr/>
        </p:nvSpPr>
        <p:spPr>
          <a:xfrm>
            <a:off x="6464160" y="2857680"/>
            <a:ext cx="908280" cy="62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4"/>
          <p:cNvSpPr/>
          <p:nvPr/>
        </p:nvSpPr>
        <p:spPr>
          <a:xfrm>
            <a:off x="7924680" y="3530520"/>
            <a:ext cx="7509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5"/>
          <p:cNvSpPr/>
          <p:nvPr/>
        </p:nvSpPr>
        <p:spPr>
          <a:xfrm>
            <a:off x="1638360" y="4038480"/>
            <a:ext cx="46623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6"/>
          <p:cNvSpPr/>
          <p:nvPr/>
        </p:nvSpPr>
        <p:spPr>
          <a:xfrm>
            <a:off x="7378560" y="4546440"/>
            <a:ext cx="11541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7527"/>
          <p:cNvSpPr/>
          <p:nvPr/>
        </p:nvSpPr>
        <p:spPr>
          <a:xfrm>
            <a:off x="1600200" y="5041800"/>
            <a:ext cx="4411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30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91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0649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77120" cy="44481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6498"/>
          <p:cNvSpPr/>
          <p:nvPr/>
        </p:nvSpPr>
        <p:spPr>
          <a:xfrm>
            <a:off x="2311560" y="2933640"/>
            <a:ext cx="747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6499"/>
          <p:cNvSpPr/>
          <p:nvPr/>
        </p:nvSpPr>
        <p:spPr>
          <a:xfrm>
            <a:off x="5130720" y="3441600"/>
            <a:ext cx="747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06500"/>
          <p:cNvSpPr/>
          <p:nvPr/>
        </p:nvSpPr>
        <p:spPr>
          <a:xfrm>
            <a:off x="6121440" y="3962520"/>
            <a:ext cx="89856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06501"/>
          <p:cNvSpPr/>
          <p:nvPr/>
        </p:nvSpPr>
        <p:spPr>
          <a:xfrm>
            <a:off x="1994040" y="4965840"/>
            <a:ext cx="1714320" cy="58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25954" descr=""/>
          <p:cNvPicPr/>
          <p:nvPr/>
        </p:nvPicPr>
        <p:blipFill>
          <a:blip r:embed="rId1"/>
          <a:stretch/>
        </p:blipFill>
        <p:spPr>
          <a:xfrm>
            <a:off x="447840" y="1128600"/>
            <a:ext cx="8248320" cy="4600800"/>
          </a:xfrm>
          <a:prstGeom prst="rect">
            <a:avLst/>
          </a:prstGeom>
          <a:ln w="0">
            <a:noFill/>
          </a:ln>
        </p:spPr>
      </p:pic>
      <p:sp>
        <p:nvSpPr>
          <p:cNvPr id="1516" name="矩形 125955"/>
          <p:cNvSpPr/>
          <p:nvPr/>
        </p:nvSpPr>
        <p:spPr>
          <a:xfrm>
            <a:off x="2997360" y="2133720"/>
            <a:ext cx="128736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25956"/>
          <p:cNvSpPr/>
          <p:nvPr/>
        </p:nvSpPr>
        <p:spPr>
          <a:xfrm>
            <a:off x="6540480" y="2565360"/>
            <a:ext cx="1416240" cy="116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25957"/>
          <p:cNvSpPr/>
          <p:nvPr/>
        </p:nvSpPr>
        <p:spPr>
          <a:xfrm>
            <a:off x="5727600" y="3886200"/>
            <a:ext cx="128772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25958"/>
          <p:cNvSpPr/>
          <p:nvPr/>
        </p:nvSpPr>
        <p:spPr>
          <a:xfrm>
            <a:off x="3898800" y="4546440"/>
            <a:ext cx="1287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25959"/>
          <p:cNvSpPr/>
          <p:nvPr/>
        </p:nvSpPr>
        <p:spPr>
          <a:xfrm>
            <a:off x="5410080" y="5041800"/>
            <a:ext cx="25466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图片 126977" descr=""/>
          <p:cNvPicPr/>
          <p:nvPr/>
        </p:nvPicPr>
        <p:blipFill>
          <a:blip r:embed="rId1"/>
          <a:stretch/>
        </p:blipFill>
        <p:spPr>
          <a:xfrm>
            <a:off x="557280" y="2728800"/>
            <a:ext cx="8029440" cy="1400400"/>
          </a:xfrm>
          <a:prstGeom prst="rect">
            <a:avLst/>
          </a:prstGeom>
          <a:ln w="0">
            <a:noFill/>
          </a:ln>
        </p:spPr>
      </p:pic>
      <p:sp>
        <p:nvSpPr>
          <p:cNvPr id="1522" name="矩形 126978"/>
          <p:cNvSpPr/>
          <p:nvPr/>
        </p:nvSpPr>
        <p:spPr>
          <a:xfrm>
            <a:off x="6921360" y="2781360"/>
            <a:ext cx="16830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矩形 126979"/>
          <p:cNvSpPr/>
          <p:nvPr/>
        </p:nvSpPr>
        <p:spPr>
          <a:xfrm>
            <a:off x="1574640" y="3467160"/>
            <a:ext cx="62373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图片 128001" descr=""/>
          <p:cNvPicPr/>
          <p:nvPr/>
        </p:nvPicPr>
        <p:blipFill>
          <a:blip r:embed="rId1"/>
          <a:stretch/>
        </p:blipFill>
        <p:spPr>
          <a:xfrm>
            <a:off x="452520" y="1471680"/>
            <a:ext cx="8238960" cy="3914640"/>
          </a:xfrm>
          <a:prstGeom prst="rect">
            <a:avLst/>
          </a:prstGeom>
          <a:ln w="0">
            <a:noFill/>
          </a:ln>
        </p:spPr>
      </p:pic>
      <p:sp>
        <p:nvSpPr>
          <p:cNvPr id="1525" name="矩形 128002"/>
          <p:cNvSpPr/>
          <p:nvPr/>
        </p:nvSpPr>
        <p:spPr>
          <a:xfrm>
            <a:off x="5435640" y="339084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128003"/>
          <p:cNvSpPr/>
          <p:nvPr/>
        </p:nvSpPr>
        <p:spPr>
          <a:xfrm>
            <a:off x="6642000" y="3873600"/>
            <a:ext cx="20336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128004"/>
          <p:cNvSpPr/>
          <p:nvPr/>
        </p:nvSpPr>
        <p:spPr>
          <a:xfrm>
            <a:off x="1676520" y="4381560"/>
            <a:ext cx="325584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447840" y="1643040"/>
            <a:ext cx="8248320" cy="35719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7"/>
          <p:cNvSpPr/>
          <p:nvPr/>
        </p:nvSpPr>
        <p:spPr>
          <a:xfrm>
            <a:off x="4572000" y="2565360"/>
            <a:ext cx="2502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3908"/>
          <p:cNvSpPr/>
          <p:nvPr/>
        </p:nvSpPr>
        <p:spPr>
          <a:xfrm>
            <a:off x="4508640" y="3098880"/>
            <a:ext cx="25016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3909"/>
          <p:cNvSpPr/>
          <p:nvPr/>
        </p:nvSpPr>
        <p:spPr>
          <a:xfrm>
            <a:off x="6667560" y="4178160"/>
            <a:ext cx="16495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10"/>
          <p:cNvSpPr/>
          <p:nvPr/>
        </p:nvSpPr>
        <p:spPr>
          <a:xfrm>
            <a:off x="1104840" y="4711680"/>
            <a:ext cx="16495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11"/>
          <p:cNvSpPr/>
          <p:nvPr/>
        </p:nvSpPr>
        <p:spPr>
          <a:xfrm>
            <a:off x="4444920" y="4699080"/>
            <a:ext cx="16495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2881" descr=""/>
          <p:cNvPicPr/>
          <p:nvPr/>
        </p:nvPicPr>
        <p:blipFill>
          <a:blip r:embed="rId1"/>
          <a:stretch/>
        </p:blipFill>
        <p:spPr>
          <a:xfrm>
            <a:off x="476280" y="2104920"/>
            <a:ext cx="8191440" cy="264816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2882"/>
          <p:cNvSpPr/>
          <p:nvPr/>
        </p:nvSpPr>
        <p:spPr>
          <a:xfrm>
            <a:off x="2527200" y="3149640"/>
            <a:ext cx="46371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2883"/>
          <p:cNvSpPr/>
          <p:nvPr/>
        </p:nvSpPr>
        <p:spPr>
          <a:xfrm>
            <a:off x="4826160" y="3683160"/>
            <a:ext cx="164916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2884"/>
          <p:cNvSpPr/>
          <p:nvPr/>
        </p:nvSpPr>
        <p:spPr>
          <a:xfrm>
            <a:off x="5118120" y="4203720"/>
            <a:ext cx="18302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912000" cy="541188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2565360" y="1841400"/>
            <a:ext cx="38070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2502000" y="2743200"/>
            <a:ext cx="38066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3898800" y="3200400"/>
            <a:ext cx="29052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2781360" y="4102200"/>
            <a:ext cx="40226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2"/>
          <p:cNvSpPr/>
          <p:nvPr/>
        </p:nvSpPr>
        <p:spPr>
          <a:xfrm>
            <a:off x="4064040" y="4533840"/>
            <a:ext cx="34606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3"/>
          <p:cNvSpPr/>
          <p:nvPr/>
        </p:nvSpPr>
        <p:spPr>
          <a:xfrm>
            <a:off x="4952880" y="5003640"/>
            <a:ext cx="34610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64"/>
          <p:cNvSpPr/>
          <p:nvPr/>
        </p:nvSpPr>
        <p:spPr>
          <a:xfrm>
            <a:off x="2565360" y="5448240"/>
            <a:ext cx="40942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5"/>
          <p:cNvSpPr/>
          <p:nvPr/>
        </p:nvSpPr>
        <p:spPr>
          <a:xfrm>
            <a:off x="4508640" y="5905440"/>
            <a:ext cx="3016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083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191440" cy="587664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0834"/>
          <p:cNvSpPr/>
          <p:nvPr/>
        </p:nvSpPr>
        <p:spPr>
          <a:xfrm>
            <a:off x="7581960" y="2082960"/>
            <a:ext cx="5684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5"/>
          <p:cNvSpPr/>
          <p:nvPr/>
        </p:nvSpPr>
        <p:spPr>
          <a:xfrm>
            <a:off x="7607160" y="3720960"/>
            <a:ext cx="5684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9809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048200" cy="60948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119810" descr=""/>
          <p:cNvPicPr/>
          <p:nvPr/>
        </p:nvPicPr>
        <p:blipFill>
          <a:blip r:embed="rId2"/>
          <a:stretch/>
        </p:blipFill>
        <p:spPr>
          <a:xfrm>
            <a:off x="646200" y="1476360"/>
            <a:ext cx="7981920" cy="39718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9811"/>
          <p:cNvSpPr/>
          <p:nvPr/>
        </p:nvSpPr>
        <p:spPr>
          <a:xfrm>
            <a:off x="3873600" y="1739880"/>
            <a:ext cx="7696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9812"/>
          <p:cNvSpPr/>
          <p:nvPr/>
        </p:nvSpPr>
        <p:spPr>
          <a:xfrm>
            <a:off x="3987720" y="2235240"/>
            <a:ext cx="10890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9813"/>
          <p:cNvSpPr/>
          <p:nvPr/>
        </p:nvSpPr>
        <p:spPr>
          <a:xfrm>
            <a:off x="3251160" y="2768760"/>
            <a:ext cx="19684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9814"/>
          <p:cNvSpPr/>
          <p:nvPr/>
        </p:nvSpPr>
        <p:spPr>
          <a:xfrm>
            <a:off x="6311880" y="3238560"/>
            <a:ext cx="7700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9815"/>
          <p:cNvSpPr/>
          <p:nvPr/>
        </p:nvSpPr>
        <p:spPr>
          <a:xfrm>
            <a:off x="2997360" y="4229280"/>
            <a:ext cx="4887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9816"/>
          <p:cNvSpPr/>
          <p:nvPr/>
        </p:nvSpPr>
        <p:spPr>
          <a:xfrm>
            <a:off x="2908440" y="4915080"/>
            <a:ext cx="4887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878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163000" cy="51055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8786"/>
          <p:cNvSpPr/>
          <p:nvPr/>
        </p:nvSpPr>
        <p:spPr>
          <a:xfrm>
            <a:off x="5423040" y="3390840"/>
            <a:ext cx="13096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8787"/>
          <p:cNvSpPr/>
          <p:nvPr/>
        </p:nvSpPr>
        <p:spPr>
          <a:xfrm>
            <a:off x="3568680" y="4267080"/>
            <a:ext cx="34513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8788"/>
          <p:cNvSpPr/>
          <p:nvPr/>
        </p:nvSpPr>
        <p:spPr>
          <a:xfrm>
            <a:off x="3467160" y="5321160"/>
            <a:ext cx="36972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7761" descr=""/>
          <p:cNvPicPr/>
          <p:nvPr/>
        </p:nvPicPr>
        <p:blipFill>
          <a:blip r:embed="rId1"/>
          <a:stretch/>
        </p:blipFill>
        <p:spPr>
          <a:xfrm>
            <a:off x="695160" y="2205000"/>
            <a:ext cx="7753680" cy="24480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7762"/>
          <p:cNvSpPr/>
          <p:nvPr/>
        </p:nvSpPr>
        <p:spPr>
          <a:xfrm>
            <a:off x="2070000" y="3111480"/>
            <a:ext cx="1206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7763"/>
          <p:cNvSpPr/>
          <p:nvPr/>
        </p:nvSpPr>
        <p:spPr>
          <a:xfrm>
            <a:off x="6934320" y="3174840"/>
            <a:ext cx="12063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7764"/>
          <p:cNvSpPr/>
          <p:nvPr/>
        </p:nvSpPr>
        <p:spPr>
          <a:xfrm>
            <a:off x="2070000" y="3898800"/>
            <a:ext cx="17812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7765"/>
          <p:cNvSpPr/>
          <p:nvPr/>
        </p:nvSpPr>
        <p:spPr>
          <a:xfrm>
            <a:off x="6908760" y="3962520"/>
            <a:ext cx="17812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8:00:3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